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39018-2E71-479B-A38F-C30FA7685DE2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ί της παρουσίασης οι μαθητές θα μπορούσαν να υλοποιήσουν τις δραστηριότητες του παρακάτω συνδέσμο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https://learningapps.org/watch?v=pjt5wvay3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90C5C-FA40-4441-8D7C-4CAADB2CD3D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ν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Ρομπότ με κινητήρα και αισθητήρα απόσταση από το πακέτο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Do 2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δώ η απάντηση μπορεί να ποικίλει, από ρομπότ που έχουν δει ή και από αυτά που φαντάζοντα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ε ρομπότ με τον άμεσο έλεγχο του ανθρώπου (τηλεκατευθυνόμενα ρομπότ) και σε αυτόνομα ρομπότ με προγραμματισμένο έλεγχο από υπολογιστή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82369-07FC-403D-BD64-374E2F77485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ωστή απάντηση η «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υ κινητήρα και του αισθητήρα απόσταση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09C50-B42A-4153-BD0E-298B31BE918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ροσθήκη Νέου Αντικειμένου από «Επιλέξτε ένα αντικείμενο», (στην αναζήτηση πάνω αριστερά) πληκτρολογείτ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obot”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και επιλέγετε το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 Robo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. Με την εισαγωγή του αντικειμένου, από την καρτέλα «Ενδυμασίες» επιλέγετε την τρίτη ενδυμασί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tro Robo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πικρατέστερη ιδέα καταγράφετε στο πίνακ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Μία απάντηση «Αποφεύγοντας τα εμπόδι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EA850-F416-4634-862F-BED3F4170E7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ι ρόλοι των ομάδων είναι ενδεικτικοί και ανάλογα με τους μαθητές οι ρόλοι μπορούν να διαφοροποιούνται και να δίνεται έμφαση στις αδυναμίες των παιδιώ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Αρχηγό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πιβλέπει την ομάδα και επεμβαίνει – βοηθάει όπου χρειάζεται. 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υπεύθυνος του υπολογιστή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λέγχει τις διαφάνειες με τα βήματα της κατασκευή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Υπεύθυνος επιλογή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πιλέγει τα σωστά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«τουβλάκια». 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Κατασκευαστή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συναρμολογεί τ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«τουβλάκι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εριγραφή τρόπου λειτουργίας όπως παρουσιάστηκε στο αρχικό βίντε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F051A-E4BC-4699-9144-BA4D31E77A8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σωστό αποτέλεσμα βρίσκεται </a:t>
            </a:r>
            <a:r>
              <a:rPr b="0" lang="el-G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https://scratch.mit.edu/projects/931948982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ρομπότ κάθε φορά που εντοπίζει εμπόδιο στον αισθητήρα απόστασης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ιστρέφει την κίνηση του μοτέρ, δηλαδή κάνει πίσω με ταυτόχρονη στροφ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7E463-DEFC-456C-B6A3-2382078A677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σωστό αποτέλεσμα βρίσκεται </a:t>
            </a:r>
            <a:r>
              <a:rPr b="0" lang="el-G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https://scratch.mit.edu/projects/931948982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ρομπότ κάθε φορά που εντοπίζει εμπόδιο στον αισθητήρα απόστασης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ιστρέφει την κίνηση του μοτέρ, δηλαδή κάνει πίσω με ταυτόχρονη στροφ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7E55E-B429-4AB3-8064-B6DDEE583EE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E6D-2F56-4983-8EF5-A8ABDB0F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DCC-6B0D-49B4-B4C1-EB823DC0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7DF-F76B-4E3F-B432-E983749A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010-D86D-4DD8-994F-76E7831C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EA0E-6258-4529-9220-E38D4391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C9EB-2B9C-4417-84BA-F5B2A769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813D-6B7F-429A-AD82-A2BC2F67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0DC4-5D27-41A4-9CC4-6CC4B000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F828-CC24-46CA-88B5-08721383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E2A1-D900-49F7-99BA-639C2F83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348E-F10A-4E9D-8B76-467321FB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F45-21DC-409A-9726-F9ABAF22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13EE-2B06-4561-99E2-B3F0221F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6049-35C6-4BE0-9BF4-DBCED98B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574C-E4D7-4FA2-9584-2F7B685C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715A-F5DC-4C30-A98F-F3F0117A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E528-67E9-4C33-A710-D3BC9551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57CA-0454-4007-A337-D054AF1E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69F7-E730-4EE8-BFBC-761CC380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6BA9-E0E5-4C82-88CE-EC6DC791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9C7E-7B0F-4322-AAF3-10D119F8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E726-A274-4EA9-973F-468D73FD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2E0-080D-4F72-87A8-029ABFDD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7A6B-E074-4DD4-BD60-9973AA0E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1477-FFB3-4DD8-AC93-0CB71297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696F-57EF-4AEA-ADAA-617AC090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6F800-7CD0-4DA6-94D8-E4ACE03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6A8DF-47D1-407B-A331-E02DA4D0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4D223-83D8-43B2-A621-478D2E14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67E4-4E3C-4A60-AA96-FE13CB7C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AF61-7D6C-4677-9E80-3D88054F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6CF2-7DE5-4CCD-970B-8EC70F52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CC9F-4113-4F75-BD6F-A18C8C0C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C3F-906B-4767-ACEE-BD4C7ACF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291DA-F6D2-46E0-9C82-2B592638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407BE-32DA-49D4-859B-67767A5A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248D-73BF-4D11-B267-FD405B9E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79F8-6CC7-4164-B47E-E81EB399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8EA60-E022-4704-AB4D-1907FBA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92DEA-C804-4D81-8F7B-980B7B61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0D7AE-74C9-4E58-94C4-811335B0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D8A26-00F2-4D26-80F7-ABA9B9A9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8281E-4126-4951-A3C2-989F5265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A8E32-7854-4FF9-86AB-2E15B60C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2D7-D679-4E05-8BCA-50319EA2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FD90-68D9-49E6-8B1D-22679005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EC59B-7252-4899-B3B4-EE7D5E6F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FBE70-C461-43BD-8646-EE6AB6FE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4A445-40B8-48AE-ACE8-1E740D5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33DCD-1561-486F-B48A-D91F1863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8CC42-6729-4416-935B-34ED20F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EBDC5-1A7D-4691-919F-1ABA229E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E254F-64C9-4840-8034-04A450B0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29C57-3155-4CE8-8AEC-59C3AFBA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0EC50-3D85-46BA-909F-88FA19E0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DBA-F33D-4AB6-86C3-E1337F11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D3AC3-6F6C-475D-9AB6-1D95EB26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D62-FAE0-4BA7-8339-12A5BF07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141-9309-488A-AFF0-B6DA277A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88B-819C-4E8D-B885-22396D92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AD9F4-2CF2-4CA0-89A2-D7426AC3C59E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102DC-8497-49D7-BF7E-B7317CBCE78E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AC08D-4C93-40BB-B420-34F14E266089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E65C4-3365-40DF-A9F7-DC755229E04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F1B26-857D-4134-9CED-FF80502655F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-ac6Cvu4hPs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88800" y="2151000"/>
            <a:ext cx="791388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5b74"/>
                </a:solidFill>
                <a:latin typeface="Franklin Gothic Book"/>
              </a:rPr>
              <a:t>ΑΠΟΦΕΥΓΟΝΤΑΣ ΤΑ ΕΜΠΟΔΙΑ 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Δημιουργός: Βαρελάς Ανδρέας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3" name="Ορθογώνιο 3"/>
          <p:cNvSpPr/>
          <p:nvPr/>
        </p:nvSpPr>
        <p:spPr>
          <a:xfrm>
            <a:off x="936720" y="74916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Εικόνα 4" descr=""/>
          <p:cNvPicPr/>
          <p:nvPr/>
        </p:nvPicPr>
        <p:blipFill>
          <a:blip r:embed="rId1"/>
          <a:stretch/>
        </p:blipFill>
        <p:spPr>
          <a:xfrm>
            <a:off x="10074240" y="301680"/>
            <a:ext cx="1336680" cy="1299960"/>
          </a:xfrm>
          <a:prstGeom prst="rect">
            <a:avLst/>
          </a:prstGeom>
          <a:ln w="0">
            <a:noFill/>
          </a:ln>
        </p:spPr>
      </p:pic>
      <p:pic>
        <p:nvPicPr>
          <p:cNvPr id="225" name="Εικόνα 5" descr=""/>
          <p:cNvPicPr/>
          <p:nvPr/>
        </p:nvPicPr>
        <p:blipFill>
          <a:blip r:embed="rId2"/>
          <a:stretch/>
        </p:blipFill>
        <p:spPr>
          <a:xfrm>
            <a:off x="1219320" y="1203480"/>
            <a:ext cx="1811160" cy="2709720"/>
          </a:xfrm>
          <a:prstGeom prst="rect">
            <a:avLst/>
          </a:prstGeom>
          <a:ln w="0">
            <a:noFill/>
          </a:ln>
        </p:spPr>
      </p:pic>
      <p:pic>
        <p:nvPicPr>
          <p:cNvPr id="226" name="Εικόνα 6" descr=""/>
          <p:cNvPicPr/>
          <p:nvPr/>
        </p:nvPicPr>
        <p:blipFill>
          <a:blip r:embed="rId3"/>
          <a:stretch/>
        </p:blipFill>
        <p:spPr>
          <a:xfrm>
            <a:off x="8238960" y="4302000"/>
            <a:ext cx="275292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38080" y="663480"/>
            <a:ext cx="8526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 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41360" y="2333520"/>
            <a:ext cx="53485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Τι παρατηρείτε στην εικόνα; 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α είδη ρομπότ γνωρίζεται;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ες κατηγορίες ρομπότ </a:t>
            </a: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γνωρίζετε;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9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30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1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Users\andre\Desktop\Διδακτικό Σενάριο\κατασκευή\με τοίχο\IMG_20231115_130808_1.jpg"/>
          <p:cNvPicPr/>
          <p:nvPr/>
        </p:nvPicPr>
        <p:blipFill>
          <a:blip r:embed="rId4"/>
          <a:stretch/>
        </p:blipFill>
        <p:spPr>
          <a:xfrm>
            <a:off x="1225440" y="1517760"/>
            <a:ext cx="3670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97120" y="663480"/>
            <a:ext cx="84679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 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539360"/>
            <a:ext cx="83455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αρουσίαση Βίντεο  </a:t>
            </a:r>
            <a:r>
              <a:rPr b="0" lang="el-GR" sz="22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200" spc="-1" strike="noStrike" u="sng">
                <a:solidFill>
                  <a:srgbClr val="6eac1c"/>
                </a:solidFill>
                <a:uFillTx/>
                <a:latin typeface="Franklin Gothic Book"/>
                <a:hlinkClick r:id="rId1"/>
              </a:rPr>
              <a:t>https://youtu.be/-ac6Cvu4hPs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Σε ποια κατηγορία ανήκει το ρομπότ που παρακολουθήσατε;</a:t>
            </a:r>
            <a:br>
              <a:rPr sz="2200"/>
            </a:b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Α) Σε ρομπότ με τον άμεσο έλεγχο του ανθρώπου (τηλεκατευθυνόμενο ρομπότ)</a:t>
            </a:r>
            <a:br>
              <a:rPr sz="2200"/>
            </a:b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Β) Σε αυτόνομο ρομπότ με έλεγχο ενός προγραμματισμένου υπολογιστή</a:t>
            </a: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ον αυτοματισμό χρησιμοποιεί το συγκεκριμένο ρομπότ;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5" name="Εικόνα 3" descr=""/>
          <p:cNvPicPr/>
          <p:nvPr/>
        </p:nvPicPr>
        <p:blipFill>
          <a:blip r:embed="rId2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36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7" name="Εικόνα 5" descr=""/>
          <p:cNvPicPr/>
          <p:nvPr/>
        </p:nvPicPr>
        <p:blipFill>
          <a:blip r:embed="rId4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22160" y="663480"/>
            <a:ext cx="86425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539360"/>
            <a:ext cx="83455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Μετάβαση στο 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Scratch (online) </a:t>
            </a:r>
            <a:br>
              <a:rPr sz="2200"/>
            </a:br>
            <a:r>
              <a:rPr b="0" lang="en-US" sz="22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335b74"/>
                </a:solidFill>
                <a:latin typeface="Franklin Gothic Book"/>
              </a:rPr>
              <a:t>https://scratch.mit.edu/projects/931838393/editor/</a:t>
            </a:r>
            <a:r>
              <a:rPr b="0" lang="el-GR" sz="2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Με ποιο εικονίδιο θα αλλάζατε το αντικείμενο «γάτα» από τις ενδυμασίες που θα αντιπροσώπευε καλύτερα το ρομπότ;</a:t>
            </a:r>
            <a:br>
              <a:rPr sz="2200"/>
            </a:b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(προσοχή επιλογή ενδυμασίας από τις «Ενδυμασίες» και </a:t>
            </a:r>
            <a:br>
              <a:rPr sz="2000"/>
            </a:b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όχι προσθήκη νέου αντικειμένου)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        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Ενδεικτική Απάντηση: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2.    Τι τίτλο θα δίνατε για το συγκεκριμένο ρομπότ; </a:t>
            </a:r>
            <a:br>
              <a:rPr sz="2200"/>
            </a:b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632880" y="1947960"/>
            <a:ext cx="1892520" cy="27572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9917280" y="453960"/>
            <a:ext cx="1608120" cy="137016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4"/>
          <a:stretch/>
        </p:blipFill>
        <p:spPr>
          <a:xfrm>
            <a:off x="7970760" y="3130560"/>
            <a:ext cx="1314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2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Κατασκευή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84240" y="1885680"/>
            <a:ext cx="825192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Καθορισμός ρόλων για τα μέλη των ομάδων: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Αρχηγός της ομάδας 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Υπεύθυνος υπολογιστή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Υπεύθυνος επιλογής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Κατασκευαστής ρομπότ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(Η σειρά των ρόλων να αλλάζει ανά 10 διαφάνειες)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Σύνδεσμος με τα βήματα κατασκευής: 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f2fb79"/>
                </a:solidFill>
                <a:latin typeface="Franklin Gothic Book"/>
              </a:rPr>
              <a:t>https://drive.google.com/file/d/18QGLw_TiAxB-LnyHw85suZCtyzPDkGUH/view?usp=sharing</a:t>
            </a:r>
            <a:r>
              <a:rPr b="0" lang="el-GR" sz="2000" spc="-1" strike="noStrike">
                <a:solidFill>
                  <a:srgbClr val="f2fb79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335b74"/>
                </a:solidFill>
                <a:latin typeface="Franklin Gothic Book"/>
              </a:rPr>
              <a:t>Ολοκλήρωση: 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εριγραφή τρόπου λειτουργίας ρομπότ</a:t>
            </a:r>
            <a:r>
              <a:rPr b="1" lang="el-GR" sz="22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6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812880"/>
            <a:ext cx="9890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3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Προγραμματισμός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55600" y="1908000"/>
            <a:ext cx="8067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ετάβαση στον προγραμματισμό του ρομπότ (σύνδεση των μεμονωμένων εντολών στην σωστή σειρά)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https://scratch.mit.edu/projects/931838393/editor/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Σύνδεση του ρομπότ με το πρόγραμμα του </a:t>
            </a:r>
            <a:r>
              <a:rPr b="0" i="1" lang="en-US" sz="2000" spc="-1" strike="noStrike">
                <a:solidFill>
                  <a:srgbClr val="335b74"/>
                </a:solidFill>
                <a:latin typeface="Franklin Gothic Book"/>
              </a:rPr>
              <a:t>Scratch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Εκτέλεση των εντολών και έλεγχος στη σωστή λειτουργία του ρομπότ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Ερώτηση: Τι κάνει το συγκεκριμένο ρομπότ και πως θα μπορούσε να περιγραφεί με λόγια ο προγραμματισμός του</a:t>
            </a:r>
            <a:r>
              <a:rPr b="0" i="1" lang="en-US" sz="2000" spc="-1" strike="noStrike">
                <a:solidFill>
                  <a:srgbClr val="335b74"/>
                </a:solidFill>
                <a:latin typeface="Franklin Gothic Book"/>
              </a:rPr>
              <a:t>;</a:t>
            </a: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1" name="Εικόνα 3" descr=""/>
          <p:cNvPicPr/>
          <p:nvPr/>
        </p:nvPicPr>
        <p:blipFill>
          <a:blip r:embed="rId1"/>
          <a:stretch/>
        </p:blipFill>
        <p:spPr>
          <a:xfrm>
            <a:off x="9713880" y="2151000"/>
            <a:ext cx="1811520" cy="273708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2"/>
          <a:stretch/>
        </p:blipFill>
        <p:spPr>
          <a:xfrm>
            <a:off x="10063080" y="422280"/>
            <a:ext cx="1462320" cy="149400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5" descr=""/>
          <p:cNvPicPr/>
          <p:nvPr/>
        </p:nvPicPr>
        <p:blipFill>
          <a:blip r:embed="rId3"/>
          <a:stretch/>
        </p:blipFill>
        <p:spPr>
          <a:xfrm>
            <a:off x="9242280" y="503388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812880"/>
            <a:ext cx="9890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4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Στάδιο αξιολόγησ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155600" y="1908000"/>
            <a:ext cx="8067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αρουσίαση του ρομπότ της κάθε ομάδας στην ολομέλεια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υμπλήρωση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Google Form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https://docs.google.com/forms/d/e/1FAIpQLSfy2PdHqQQOZs0IMQnl-SGtfmkA7w7dInX_gv1EVhGs5GCo_g/viewform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6" name="Εικόνα 3" descr=""/>
          <p:cNvPicPr/>
          <p:nvPr/>
        </p:nvPicPr>
        <p:blipFill>
          <a:blip r:embed="rId1"/>
          <a:stretch/>
        </p:blipFill>
        <p:spPr>
          <a:xfrm>
            <a:off x="9713880" y="2151000"/>
            <a:ext cx="1811520" cy="273708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4" descr=""/>
          <p:cNvPicPr/>
          <p:nvPr/>
        </p:nvPicPr>
        <p:blipFill>
          <a:blip r:embed="rId2"/>
          <a:stretch/>
        </p:blipFill>
        <p:spPr>
          <a:xfrm>
            <a:off x="10063080" y="422280"/>
            <a:ext cx="1462320" cy="1494000"/>
          </a:xfrm>
          <a:prstGeom prst="rect">
            <a:avLst/>
          </a:prstGeom>
          <a:ln w="0">
            <a:noFill/>
          </a:ln>
        </p:spPr>
      </p:pic>
      <p:pic>
        <p:nvPicPr>
          <p:cNvPr id="258" name="Εικόνα 5" descr=""/>
          <p:cNvPicPr/>
          <p:nvPr/>
        </p:nvPicPr>
        <p:blipFill>
          <a:blip r:embed="rId3"/>
          <a:stretch/>
        </p:blipFill>
        <p:spPr>
          <a:xfrm>
            <a:off x="9242280" y="503388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And Bar</cp:lastModifiedBy>
  <dcterms:modified xsi:type="dcterms:W3CDTF">2023-11-29T20:09:09Z</dcterms:modified>
  <cp:revision>206</cp:revision>
  <dc:subject/>
  <dc:title>Παρουσίαση του PowerPoint</dc:title>
</cp:coreProperties>
</file>